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177-247A-463B-AD43-A1DB08A7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4C8-ED0C-45DC-B277-B9EEA93C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320-8A8E-4BBF-9830-71B3E811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27B-016D-4275-B66D-5661DCA9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FC90-0300-48DF-8F07-58935D9B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D1B0-DB0E-4C8D-96DE-0D8C504E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8B18-2D2A-47D6-B43B-84190810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107B-05CC-47B6-AC53-6E3B8CB2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BB42-26D2-4B18-8BF7-701BFA6C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0292-82AD-4648-A753-BD521456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F865-4B57-4E1A-B926-819220A7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596-8315-491B-B0B7-F8952219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9AFC-6CFC-41BA-AD49-75826D86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C143-8697-496B-996D-92AB5DE0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7601-0F01-453E-8208-4C470E67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1C4E-0500-4B85-B061-1DEFC6C6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42CB-0580-49CA-98AA-7EF85CE2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F21-2163-4054-968A-4A2EE268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0B3-2ABC-4967-9AEA-823ED820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FDB-4F61-4647-9DC9-E75E3C3C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8CE-5CBB-4857-8C2B-B0C90436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F86-3A6B-4609-A379-C3DF93EA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D33-143B-4AE7-A1B3-365E28FD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41F-332B-4DA8-97E2-21190D2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780D-7C32-48B8-9506-F8D2189860C2}" type="datetime">
              <a:rPr b="0" lang="en-US" sz="900" spc="-1" strike="noStrike">
                <a:solidFill>
                  <a:srgbClr val="898989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6111-9099-4501-84FD-539F8159347D}" type="slidenum">
              <a:rPr b="0" lang="en-US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LOGO"/>
          <p:cNvPicPr/>
          <p:nvPr/>
        </p:nvPicPr>
        <p:blipFill>
          <a:blip r:embed="rId3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A496-9157-4CD2-B706-247EF3A60C98}" type="datetime">
              <a:rPr b="0" lang="en-US" sz="900" spc="-1" strike="noStrike">
                <a:solidFill>
                  <a:srgbClr val="898989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1F18-F43C-4140-A25E-B58731F0EC2D}" type="slidenum">
              <a:rPr b="0" lang="en-US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3068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3400" spc="-1" strike="noStrike">
                <a:solidFill>
                  <a:srgbClr val="000066"/>
                </a:solidFill>
                <a:latin typeface="Calibri Light"/>
              </a:rPr>
              <a:t>Г03- КЛИНИЧКА ФАРМАЦИЈА 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68C1-B194-4D00-970D-DC48BCB0ED7D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195640" y="2133720"/>
            <a:ext cx="43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2344680" y="50846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001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Calibri Light"/>
              </a:rPr>
              <a:t>Дисциплина клиничке фармације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66280" y="2636640"/>
            <a:ext cx="77504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Истицањем да клиничка фармација </a:t>
            </a:r>
            <a:r>
              <a:rPr b="0" i="1" lang="sr-Latn-CS" sz="2600" spc="-1" strike="noStrike">
                <a:solidFill>
                  <a:srgbClr val="000066"/>
                </a:solidFill>
                <a:latin typeface="Calibri"/>
              </a:rPr>
              <a:t>обухвата филозофију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CS" sz="2600" spc="-1" strike="noStrike">
                <a:solidFill>
                  <a:srgbClr val="00ff00"/>
                </a:solidFill>
                <a:latin typeface="Calibri"/>
              </a:rPr>
              <a:t>фармацеутске нег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дефиниција усмерава пажњу ка чињеници да је основни циљ праксе и истраживања коначн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3400" spc="-1" strike="noStrike">
                <a:solidFill>
                  <a:srgbClr val="000066"/>
                </a:solidFill>
                <a:latin typeface="Calibri"/>
              </a:rPr>
              <a:t>пацијент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A1D0-DEB9-407F-96E9-AB7EAF1FC6FB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3300" spc="-1" strike="noStrike">
                <a:solidFill>
                  <a:srgbClr val="000066"/>
                </a:solidFill>
                <a:latin typeface="Calibri Light"/>
              </a:rPr>
              <a:t>клинички фармацеу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Примена </a:t>
            </a:r>
            <a:r>
              <a:rPr b="0" i="1" lang="sr-Latn-CS" sz="2600" spc="-1" strike="noStrike">
                <a:solidFill>
                  <a:srgbClr val="002060"/>
                </a:solidFill>
                <a:latin typeface="Calibri"/>
              </a:rPr>
              <a:t>доказа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0" i="1" lang="sr-Latn-CS" sz="2600" spc="-1" strike="noStrike">
                <a:solidFill>
                  <a:srgbClr val="002060"/>
                </a:solidFill>
                <a:latin typeface="Calibri"/>
              </a:rPr>
              <a:t>развоја науке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 од стране клиничког фармацеута истиче да је клиничка фармација дисциплина са кореном у науц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примена </a:t>
            </a:r>
            <a:r>
              <a:rPr b="0" i="1" lang="sr-Latn-CS" sz="2600" spc="-1" strike="noStrike">
                <a:solidFill>
                  <a:srgbClr val="002060"/>
                </a:solidFill>
                <a:latin typeface="Calibri"/>
              </a:rPr>
              <a:t>правних, етичких, социјалних, културних, економских и професионалних принципа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 служи да нас подсети да пракса клиничке фармације такође узима у обзир </a:t>
            </a:r>
            <a:r>
              <a:rPr b="0" lang="sr-CS" sz="26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друштвен</a:t>
            </a:r>
            <a:r>
              <a:rPr b="0" lang="sr-CS" sz="2600" spc="-1" strike="noStrike">
                <a:solidFill>
                  <a:srgbClr val="002060"/>
                </a:solidFill>
                <a:latin typeface="Calibri"/>
              </a:rPr>
              <a:t>е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 фактор</a:t>
            </a:r>
            <a:r>
              <a:rPr b="0" lang="sr-CS" sz="2600" spc="-1" strike="noStrike">
                <a:solidFill>
                  <a:srgbClr val="002060"/>
                </a:solidFill>
                <a:latin typeface="Calibri"/>
              </a:rPr>
              <a:t>е</a:t>
            </a:r>
            <a:r>
              <a:rPr b="0" lang="sr-Latn-CS" sz="2600" spc="-1" strike="noStrike">
                <a:solidFill>
                  <a:srgbClr val="002060"/>
                </a:solidFill>
                <a:latin typeface="Calibri"/>
              </a:rPr>
              <a:t> који се простиру изван науке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BE30-F901-4E7E-B409-0143ACF09977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sr-CS" sz="3000" spc="-1" strike="noStrike">
                <a:solidFill>
                  <a:srgbClr val="000066"/>
                </a:solidFill>
                <a:latin typeface="Calibri Light"/>
              </a:rPr>
              <a:t>К</a:t>
            </a:r>
            <a:r>
              <a:rPr b="0" lang="sr-Latn-CS" sz="3000" spc="-1" strike="noStrike">
                <a:solidFill>
                  <a:srgbClr val="000066"/>
                </a:solidFill>
                <a:latin typeface="Calibri Light"/>
              </a:rPr>
              <a:t>линички фармацеут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2923920"/>
            <a:ext cx="788688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sr-Latn-CS" sz="2100" spc="-1" strike="noStrike">
                <a:solidFill>
                  <a:srgbClr val="002060"/>
                </a:solidFill>
                <a:latin typeface="Calibri"/>
              </a:rPr>
              <a:t>преузима одговорност и надлежност</a:t>
            </a:r>
            <a:r>
              <a:rPr b="0" lang="sr-Latn-CS" sz="2100" spc="-1" strike="noStrike">
                <a:solidFill>
                  <a:srgbClr val="002060"/>
                </a:solidFill>
                <a:latin typeface="Calibri"/>
              </a:rPr>
              <a:t> за испуњење терапеутских циљев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2060"/>
                </a:solidFill>
                <a:latin typeface="Calibri"/>
              </a:rPr>
              <a:t>он je више од консултан</a:t>
            </a:r>
            <a:r>
              <a:rPr b="0" lang="sr-CS" sz="2100" spc="-1" strike="noStrike">
                <a:solidFill>
                  <a:srgbClr val="002060"/>
                </a:solidFill>
                <a:latin typeface="Calibri"/>
              </a:rPr>
              <a:t>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2060"/>
                </a:solidFill>
                <a:latin typeface="Calibri"/>
              </a:rPr>
              <a:t>прати </a:t>
            </a:r>
            <a:r>
              <a:rPr b="0" lang="sr-Latn-CS" sz="2100" spc="-1" strike="noStrike">
                <a:solidFill>
                  <a:srgbClr val="002060"/>
                </a:solidFill>
                <a:latin typeface="Calibri"/>
              </a:rPr>
              <a:t> терапиј</a:t>
            </a:r>
            <a:r>
              <a:rPr b="0" lang="sr-CS" sz="2100" spc="-1" strike="noStrike">
                <a:solidFill>
                  <a:srgbClr val="002060"/>
                </a:solidFill>
                <a:latin typeface="Calibri"/>
              </a:rPr>
              <a:t>у</a:t>
            </a:r>
            <a:r>
              <a:rPr b="0" lang="sr-Latn-CS" sz="2100" spc="-1" strike="noStrike">
                <a:solidFill>
                  <a:srgbClr val="002060"/>
                </a:solidFill>
                <a:latin typeface="Calibri"/>
              </a:rPr>
              <a:t> у </a:t>
            </a:r>
            <a:r>
              <a:rPr b="0" i="1" lang="sr-Latn-CS" sz="2100" spc="-1" strike="noStrike">
                <a:solidFill>
                  <a:srgbClr val="002060"/>
                </a:solidFill>
                <a:latin typeface="Calibri"/>
              </a:rPr>
              <a:t>окружењу директне неге пацијена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DA00-9523-4C6A-8323-D734A80942B8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sr-Latn-CS" sz="2200" spc="-1" strike="noStrike">
                <a:solidFill>
                  <a:srgbClr val="000066"/>
                </a:solidFill>
                <a:latin typeface="Calibri Light"/>
              </a:rPr>
              <a:t>Улоге у оквиру система здравствене заштите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клинички фармацеут</a:t>
            </a:r>
            <a:r>
              <a:rPr b="0" lang="sr-Latn-C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100" spc="-1" strike="noStrike">
                <a:solidFill>
                  <a:srgbClr val="002060"/>
                </a:solidFill>
                <a:latin typeface="Calibri"/>
              </a:rPr>
              <a:t>поуздани </a:t>
            </a:r>
            <a:r>
              <a:rPr b="0" i="1" lang="sr-Latn-CS" sz="2100" spc="-1" strike="noStrike">
                <a:solidFill>
                  <a:srgbClr val="002060"/>
                </a:solidFill>
                <a:latin typeface="Calibri"/>
              </a:rPr>
              <a:t> извор научно валидне информације </a:t>
            </a:r>
            <a:r>
              <a:rPr b="0" i="1" lang="sr-Latn-CS" sz="2100" spc="-1" strike="noStrike">
                <a:solidFill>
                  <a:srgbClr val="000066"/>
                </a:solidFill>
                <a:latin typeface="Calibri"/>
              </a:rPr>
              <a:t>и савет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о </a:t>
            </a:r>
            <a:r>
              <a:rPr b="0" i="1" lang="sr-CS" sz="2100" spc="-1" strike="noStrike">
                <a:solidFill>
                  <a:srgbClr val="000066"/>
                </a:solidFill>
                <a:latin typeface="Calibri"/>
              </a:rPr>
              <a:t>правилној</a:t>
            </a:r>
            <a:r>
              <a:rPr b="0" i="1" lang="sr-Latn-CS" sz="2100" spc="-1" strike="noStrike">
                <a:solidFill>
                  <a:srgbClr val="000066"/>
                </a:solidFill>
                <a:latin typeface="Calibri"/>
              </a:rPr>
              <a:t> примени леков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4D8-AEC3-4E08-A13F-AD848B67ABEA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981080"/>
            <a:ext cx="842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Општи циљ активности клиничке фармације је унапређење правилне и одговарајуће употребе леко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Ове активности имају за циљ да се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обезбеди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најефикаснија терапија за сваког пацијент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ризици од појаве нежељених реакција на ту терапију сведу на најмању могућу меру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средства за спровођење терапије користе на економичан и рационалан нач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23DD-C6CC-4BEB-BF91-D0D334B73C08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66280" y="2349360"/>
            <a:ext cx="80010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ктивности клиничког фармац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еут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могу 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да 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ути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чу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на правилну употребу лекова на три различита ниво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5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1500" spc="-1" strike="noStrike">
                <a:solidFill>
                  <a:srgbClr val="000066"/>
                </a:solidFill>
                <a:latin typeface="Calibri"/>
              </a:rPr>
              <a:t>пре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5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1500" spc="-1" strike="noStrike">
                <a:solidFill>
                  <a:srgbClr val="000066"/>
                </a:solidFill>
                <a:latin typeface="Calibri"/>
              </a:rPr>
              <a:t>током и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5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1500" spc="-1" strike="noStrike">
                <a:solidFill>
                  <a:srgbClr val="000066"/>
                </a:solidFill>
                <a:latin typeface="Calibri"/>
              </a:rPr>
              <a:t>након што је </a:t>
            </a:r>
            <a:r>
              <a:rPr b="0" lang="sr-CS" sz="1500" spc="-1" strike="noStrike">
                <a:solidFill>
                  <a:srgbClr val="000066"/>
                </a:solidFill>
                <a:latin typeface="Calibri"/>
              </a:rPr>
              <a:t>лек</a:t>
            </a:r>
            <a:r>
              <a:rPr b="0" lang="sr-Latn-CS" sz="1500" spc="-1" strike="noStrike">
                <a:solidFill>
                  <a:srgbClr val="000066"/>
                </a:solidFill>
                <a:latin typeface="Calibri"/>
              </a:rPr>
              <a:t> прописан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186E-2C5E-45DE-8651-BE1E65593BE2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 Light"/>
              </a:rPr>
              <a:t>А</a:t>
            </a:r>
            <a:r>
              <a:rPr b="0" lang="sr-Latn-CS" sz="2100" spc="-1" strike="noStrike">
                <a:solidFill>
                  <a:srgbClr val="000066"/>
                </a:solidFill>
                <a:latin typeface="Calibri Light"/>
              </a:rPr>
              <a:t>ктивности клиничког фармац</a:t>
            </a:r>
            <a:r>
              <a:rPr b="0" lang="sr-CS" sz="2100" spc="-1" strike="noStrike">
                <a:solidFill>
                  <a:srgbClr val="000066"/>
                </a:solidFill>
                <a:latin typeface="Calibri Light"/>
              </a:rPr>
              <a:t>еута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600" spc="-1" strike="noStrike">
                <a:solidFill>
                  <a:srgbClr val="ed7d31"/>
                </a:solidFill>
                <a:latin typeface="Calibri"/>
              </a:rPr>
              <a:t>Пре</a:t>
            </a:r>
            <a:r>
              <a:rPr b="1" lang="sr-CS" sz="26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1" lang="sr-Latn-CS" sz="2600" spc="-1" strike="noStrike">
                <a:solidFill>
                  <a:srgbClr val="ed7d31"/>
                </a:solidFill>
                <a:latin typeface="Calibri"/>
              </a:rPr>
              <a:t>прописивања</a:t>
            </a:r>
            <a:r>
              <a:rPr b="1" lang="sr-CS" sz="2600" spc="-1" strike="noStrike">
                <a:solidFill>
                  <a:srgbClr val="ed7d31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линичка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испитивања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рописи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, регулаторна Аген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нформације о леков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600" spc="-1" strike="noStrike">
                <a:solidFill>
                  <a:srgbClr val="ed7d31"/>
                </a:solidFill>
                <a:latin typeface="Calibri"/>
              </a:rPr>
              <a:t>Током прописивања</a:t>
            </a:r>
            <a:r>
              <a:rPr b="1" lang="sr-CS" sz="2600" spc="-1" strike="noStrike">
                <a:solidFill>
                  <a:srgbClr val="ed7d31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аветодавна активнос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600" spc="-1" strike="noStrike">
                <a:solidFill>
                  <a:srgbClr val="ed7d31"/>
                </a:solidFill>
                <a:latin typeface="Calibri"/>
              </a:rPr>
              <a:t>Након прописивања</a:t>
            </a:r>
            <a:r>
              <a:rPr b="1" lang="sr-CS" sz="2600" spc="-1" strike="noStrike">
                <a:solidFill>
                  <a:srgbClr val="ed7d31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аветовање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, п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рипрема формулација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 према индивидуалним потребама пацијента, 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процена употребе лекова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, и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страживање исхода</a:t>
            </a:r>
            <a:r>
              <a:rPr b="0" lang="sr-CS" sz="2600" spc="-1" strike="noStrike">
                <a:solidFill>
                  <a:srgbClr val="000066"/>
                </a:solidFill>
                <a:latin typeface="Times New Roman"/>
              </a:rPr>
              <a:t> лечења, ф</a:t>
            </a:r>
            <a:r>
              <a:rPr b="0" lang="sr-Latn-CS" sz="2600" spc="-1" strike="noStrike">
                <a:solidFill>
                  <a:srgbClr val="000066"/>
                </a:solidFill>
                <a:latin typeface="Times New Roman"/>
              </a:rPr>
              <a:t>армакоекономске студ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F5D8-E53C-4A40-9EE0-9BE99C8062D8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500" spc="-1" strike="noStrike">
                <a:solidFill>
                  <a:srgbClr val="000066"/>
                </a:solidFill>
                <a:latin typeface="Times New Roman"/>
              </a:rPr>
              <a:t>Делокруг рада </a:t>
            </a:r>
            <a:r>
              <a:rPr b="1" lang="sr-Latn-CS" sz="2500" spc="-1" strike="noStrike">
                <a:solidFill>
                  <a:srgbClr val="000066"/>
                </a:solidFill>
                <a:latin typeface="Times New Roman"/>
              </a:rPr>
              <a:t>клиничког </a:t>
            </a:r>
            <a:r>
              <a:rPr b="1" lang="sr-CS" sz="2500" spc="-1" strike="noStrike">
                <a:solidFill>
                  <a:srgbClr val="000066"/>
                </a:solidFill>
                <a:latin typeface="Times New Roman"/>
              </a:rPr>
              <a:t>фармацеута</a:t>
            </a:r>
            <a:r>
              <a:rPr b="0" lang="sr-CS" sz="2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500" spc="-1" strike="noStrike">
                <a:solidFill>
                  <a:srgbClr val="000066"/>
                </a:solidFill>
                <a:latin typeface="Times New Roman"/>
              </a:rPr>
              <a:t> укључуј</a:t>
            </a:r>
            <a:r>
              <a:rPr b="0" lang="sr-CS" sz="2500" spc="-1" strike="noStrike">
                <a:solidFill>
                  <a:srgbClr val="000066"/>
                </a:solidFill>
                <a:latin typeface="Times New Roman"/>
              </a:rPr>
              <a:t>е следеће</a:t>
            </a:r>
            <a:r>
              <a:rPr b="0" lang="sr-Latn-CS" sz="2500" spc="-1" strike="noStrike">
                <a:solidFill>
                  <a:srgbClr val="000066"/>
                </a:solidFill>
                <a:latin typeface="Times New Roman"/>
              </a:rPr>
              <a:t> активности: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9280" y="2492280"/>
            <a:ext cx="80708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С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аветовање</a:t>
            </a:r>
            <a:r>
              <a:rPr b="0" lang="en-US" sz="21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Избор леко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Информације о лековим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Формулација и припрема леко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Анализа 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употребе леко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Фармакокинетско/терапијско праћење леко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Клиничке студије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Фармакоекономија</a:t>
            </a:r>
            <a:r>
              <a:rPr b="0" lang="en-US" sz="21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Издавање и примена лекова и медицинских средстава</a:t>
            </a:r>
            <a:r>
              <a:rPr b="0" lang="en-US" sz="21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Настава и обук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A0BB-1E9E-438E-BF2E-1CAB9D3BBC50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072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3000" spc="-1" strike="noStrike">
                <a:solidFill>
                  <a:srgbClr val="000066"/>
                </a:solidFill>
                <a:latin typeface="Calibri Light"/>
              </a:rPr>
              <a:t>                                              </a:t>
            </a:r>
            <a:br>
              <a:rPr sz="3000"/>
            </a:br>
            <a:br>
              <a:rPr sz="3000"/>
            </a:br>
            <a:r>
              <a:rPr b="1" lang="sr-Latn-CS" sz="2200" spc="-1" strike="noStrike">
                <a:solidFill>
                  <a:srgbClr val="000066"/>
                </a:solidFill>
                <a:latin typeface="Calibri Light"/>
              </a:rPr>
              <a:t>Ф</a:t>
            </a:r>
            <a:r>
              <a:rPr b="1" lang="sr-CS" sz="2200" spc="-1" strike="noStrike">
                <a:solidFill>
                  <a:srgbClr val="000066"/>
                </a:solidFill>
                <a:latin typeface="Calibri Light"/>
              </a:rPr>
              <a:t>АРМАЦЕУТСКА НЕГА</a:t>
            </a:r>
            <a:r>
              <a:rPr b="0" lang="sr-CS" sz="2200" spc="-1" strike="noStrike">
                <a:solidFill>
                  <a:srgbClr val="ffff00"/>
                </a:solidFill>
                <a:latin typeface="Calibri Light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2060640"/>
            <a:ext cx="83595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Фармацеутска здравствена делатнос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Фармацеутску здравствену делатност обављају фармацеути и фармацеутски техничари са одговарајућом школом здравствене струке, пружајући пацијентима услугу тзв. </a:t>
            </a:r>
            <a:r>
              <a:rPr b="1" lang="sr-CS" sz="2100" spc="-1" strike="noStrike">
                <a:solidFill>
                  <a:srgbClr val="000066"/>
                </a:solidFill>
                <a:latin typeface="Calibri"/>
              </a:rPr>
              <a:t>фармацеутску негу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 (енглески: </a:t>
            </a:r>
            <a:r>
              <a:rPr b="1" lang="en-US" sz="2100" spc="-1" strike="noStrike">
                <a:solidFill>
                  <a:srgbClr val="000066"/>
                </a:solidFill>
                <a:latin typeface="Calibri"/>
              </a:rPr>
              <a:t>Pharmaceutical</a:t>
            </a:r>
            <a:r>
              <a:rPr b="1" lang="sr-CS" sz="2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Calibri"/>
              </a:rPr>
              <a:t>Care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).</a:t>
            </a:r>
            <a:r>
              <a:rPr b="0" lang="en-US" sz="21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DBD0-BDA1-4B84-B110-DF6A72E30E1C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1BD4-A9B8-47D7-9DEC-EE1B0E458013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400" spc="-1" strike="noStrike">
                <a:solidFill>
                  <a:srgbClr val="000066"/>
                </a:solidFill>
                <a:latin typeface="Calibri Light"/>
              </a:rPr>
              <a:t>Фармацеутска здравствена делатност обухват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спровођење превентивних мера за очување и заштиту здравља становништва, односно промоцију здрављ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унапређивање фармакотерапијских мера и поступака у рационалној употреби лекова и одређених врста медицинских средстав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рационализацију трошкова за спровођење утврђених терапијских протокола лечењ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праћење нежељених реакција на лекове и медицинска средства, као и избегавање или смањивање тих реакциј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избегавање интеракција терапијског дуплирања примене леков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alibri"/>
              </a:rPr>
              <a:t>друге послове фармацеутске здравствене делатности, у складу са законо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1FBE-8B2E-41B8-BB59-1A17C45E083D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77B6-5716-42AD-A33C-F98AF5E04760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3400" spc="-1" strike="noStrike">
                <a:solidFill>
                  <a:srgbClr val="000066"/>
                </a:solidFill>
                <a:latin typeface="Calibri Light"/>
              </a:rPr>
              <a:t>КЛИНИЧКА ФАРМАЦИЈА 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0920" y="3573000"/>
            <a:ext cx="8001000" cy="2521080"/>
          </a:xfrm>
          <a:prstGeom prst="rect">
            <a:avLst/>
          </a:prstGeom>
          <a:solidFill>
            <a:srgbClr val="e7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Јанковић СМ, Простран М,Тодоровић З. 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армакологија и токсикологија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Медицински факултет, Крагујевац, 200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Јанковић СМ, уредник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армакологија и токсикологија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Медицински факултет, Крагујевац, 201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Јанковић СМ, Радоњић В.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снове клиничке фармације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армакотерапијски водич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Агенција за лекове и медицинска средства Србије, број </a:t>
            </a:r>
            <a:r>
              <a:rPr b="0" lang="sr-Latn-R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201</a:t>
            </a:r>
            <a:r>
              <a:rPr b="0" lang="sr-Latn-R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</a:t>
            </a:r>
            <a:r>
              <a:rPr b="0" lang="sr-Latn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Joseph T. DiPiro ...(et al.). </a:t>
            </a:r>
            <a:r>
              <a:rPr b="1" lang="sr-Latn-CS" sz="1700" spc="-1" strike="noStrike">
                <a:solidFill>
                  <a:srgbClr val="000066"/>
                </a:solidFill>
                <a:latin typeface="CYDutchR"/>
                <a:ea typeface="Times New Roman"/>
              </a:rPr>
              <a:t>C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cepts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inical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armacokinetics</a:t>
            </a:r>
            <a:r>
              <a:rPr b="0" lang="sr-Latn-CS" sz="1700" spc="-1" strike="noStrike">
                <a:solidFill>
                  <a:srgbClr val="000066"/>
                </a:solidFill>
                <a:latin typeface="CYDutchR"/>
                <a:ea typeface="Times New Roman"/>
              </a:rPr>
              <a:t>. </a:t>
            </a:r>
            <a:r>
              <a:rPr b="0" lang="sr-Latn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merican Society of Health Systems Pharmacists, Inc., 2005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700" spc="-1" strike="noStrike">
                <a:solidFill>
                  <a:srgbClr val="000066"/>
                </a:solidFill>
                <a:latin typeface="CYDutchR"/>
                <a:ea typeface="Times New Roman"/>
              </a:rPr>
              <a:t>6</a:t>
            </a:r>
            <a:r>
              <a:rPr b="0" lang="en-US" sz="1700" spc="-1" strike="noStrike">
                <a:solidFill>
                  <a:srgbClr val="000066"/>
                </a:solidFill>
                <a:latin typeface="CYDutchR"/>
                <a:ea typeface="Times New Roman"/>
              </a:rPr>
              <a:t>.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р Покрајац М. </a:t>
            </a:r>
            <a:r>
              <a:rPr b="1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армакокинетика </a:t>
            </a:r>
            <a:r>
              <a:rPr b="0" lang="sr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Београд: </a:t>
            </a:r>
            <a:r>
              <a:rPr b="0" lang="sr-Latn-CS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op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F16F-7B73-4333-B5DC-F56AABD8A71A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835560" y="314172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66"/>
                </a:solidFill>
                <a:latin typeface="Verdana"/>
              </a:rPr>
              <a:t>Препоручена литерату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340000" y="11970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Calibri Light"/>
              </a:rPr>
              <a:t>Ф</a:t>
            </a:r>
            <a:r>
              <a:rPr b="1" lang="sr-CS" sz="2400" spc="-1" strike="noStrike">
                <a:solidFill>
                  <a:srgbClr val="000066"/>
                </a:solidFill>
                <a:latin typeface="Calibri Light"/>
              </a:rPr>
              <a:t>АРМАЦЕУТСКА НЕГ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11280" y="1981080"/>
            <a:ext cx="799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Опште прихваћена дефиниција Хеплера и Странд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ове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„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Фармацеутска нега је одговорно обезбеђење медикаментне терапије у циљу остварења коначних исхода који пацијенту побољшавају квалитет живота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“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E31D-7F6D-48AE-AC2B-7EAE7253D2D7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19A6-FBE5-4240-8538-C686B34E8CD3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Calibri Light"/>
              </a:rPr>
              <a:t>Фармацеутска нег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подразумева процес сарадње са пацијентом и другим стручњацима на изради, примени и одржавању плана лечења са конкретним исходима за датог пацијента, 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што 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подразумева три основне функције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о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ткривање могућих и постојећих проблема у вези са лековим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р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ешавање постојећих проблема у вези са лековима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 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с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пречавање настанка таквих проблема</a:t>
            </a:r>
            <a:r>
              <a:rPr b="0" lang="sr-Latn-CS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6F6C-4749-45B6-B7EB-5D8986976066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D627-DA2B-48F7-A8F9-F38BB12C821B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Calibri Light"/>
              </a:rPr>
              <a:t>Кључни елементи фармацеутске нег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964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1900" spc="-1" strike="noStrike">
                <a:solidFill>
                  <a:srgbClr val="00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ed7d31"/>
                </a:solidFill>
                <a:latin typeface="Calibri"/>
              </a:rPr>
              <a:t>Фармацеут</a:t>
            </a:r>
            <a:r>
              <a:rPr b="1" lang="sr-Latn-CS" sz="19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је</a:t>
            </a:r>
            <a:r>
              <a:rPr b="1" lang="sr-CS" sz="19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главни учесник у спровођењу фармацеутске неге, он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Сакупља и документује потребну документацију на систематски и конструктиван начин у циљу сагледавања да ли пацијент има потенцијалне или стварне проблеме са лекови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Одређује и наводи проблеме са лековима које пацијент има или постоји ризик да их и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У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тврђује и наводи жељене терапијске исходе за сваки идентификовани проблем са лекови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Разматра и рангира све терапијске интервенције од којих би се могло очекивати да дају жељени терапијски исход сваког пробле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је предлоге 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о избору терапијске алтернативе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, и у договору са лекаром је издаје пацијенту;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евидентира дозни режим сваког лека за сваког пацијен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Формулише и документује план фармакотерапијског праћењ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B111-F21E-4357-A554-3E8486CEF75F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FEA3-F59C-43B5-8957-4F9A5525EE3F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Calibri Light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Calibri Light"/>
              </a:rPr>
              <a:t>тврђивање ризика у клиничкој пракс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Први корак у процесу фармацеутске неге је утврђивање могућих проблема који представљају ф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актор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е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ризика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, а могу 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се 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 сврстати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у три категориј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Клиничке </a:t>
            </a:r>
            <a:r>
              <a:rPr b="1" lang="sr-Latn-CS" sz="1900" spc="-1" strike="noStrike">
                <a:solidFill>
                  <a:srgbClr val="000066"/>
                </a:solidFill>
                <a:latin typeface="Calibri"/>
              </a:rPr>
              <a:t>карактеристике пацијента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– то су физичке и лако доступне карактеристике као што су старост, пол, народност, трудноћа, имунолошки статус, функција бубрега, јетре и срца, статус ухрањености и очекивања пацијен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1900" spc="-1" strike="noStrike">
                <a:solidFill>
                  <a:srgbClr val="000066"/>
                </a:solidFill>
                <a:latin typeface="Calibri"/>
              </a:rPr>
              <a:t>Болест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– процене, брзина и степен оштећења изазваних болешћу и перцепција тих фактора од стране пацијен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1900" spc="-1" strike="noStrike">
                <a:solidFill>
                  <a:srgbClr val="000066"/>
                </a:solidFill>
                <a:latin typeface="Calibri"/>
              </a:rPr>
              <a:t>Фармакотерапија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– ризик се утврђује проценом токсичности медикаментне терапије,   безбедоносн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ог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профил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лека , начина и техника за примену лекова и перцепција ова три елемента од стране пацијен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F0D5-3C1F-46B3-9386-076C5B7F61CD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C80F-BAA1-4B11-AE39-F284B460DD63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361360" cy="12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1900" spc="-1" strike="noStrike">
                <a:solidFill>
                  <a:srgbClr val="000066"/>
                </a:solidFill>
                <a:latin typeface="Calibri Light"/>
              </a:rPr>
              <a:t>М</a:t>
            </a:r>
            <a:r>
              <a:rPr b="1" lang="sr-Latn-CS" sz="1900" spc="-1" strike="noStrike">
                <a:solidFill>
                  <a:srgbClr val="000066"/>
                </a:solidFill>
                <a:latin typeface="Calibri Light"/>
              </a:rPr>
              <a:t>огућ</a:t>
            </a:r>
            <a:r>
              <a:rPr b="1" lang="sr-CS" sz="19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1" lang="sr-Latn-CS" sz="1900" spc="-1" strike="noStrike">
                <a:solidFill>
                  <a:srgbClr val="000066"/>
                </a:solidFill>
                <a:latin typeface="Calibri Light"/>
              </a:rPr>
              <a:t> проблем</a:t>
            </a:r>
            <a:r>
              <a:rPr b="1" lang="sr-CS" sz="19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0" lang="sr-Latn-CS" sz="1900" spc="-1" strike="noStrike">
                <a:solidFill>
                  <a:srgbClr val="000066"/>
                </a:solidFill>
                <a:latin typeface="Calibri Light"/>
              </a:rPr>
              <a:t> са којима се фармацеут може срести приликом пружања фармацеутске неге</a:t>
            </a:r>
            <a:r>
              <a:rPr b="0" lang="sr-CS" sz="1900" spc="-1" strike="noStrike">
                <a:solidFill>
                  <a:srgbClr val="000066"/>
                </a:solidFill>
                <a:latin typeface="Calibri Light"/>
              </a:rPr>
              <a:t> се јављају у случају</a:t>
            </a:r>
            <a:r>
              <a:rPr b="0" lang="sr-Latn-CS" sz="1900" spc="-1" strike="noStrike">
                <a:solidFill>
                  <a:srgbClr val="ffff00"/>
                </a:solidFill>
                <a:latin typeface="Calibri Light"/>
              </a:rPr>
              <a:t>: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12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је прописан лек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без медицинск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е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индикациј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није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прописан лек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 за одређену медицинску индикацију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рописани лекови не одговарају датом медицинском стањ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је прописана н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еодговарајућа доза, облик дозирања, распоред примене, начин или метод примен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т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ерапијск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е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дупликациј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су 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ропис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ани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леков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на које је пацијент алергича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остојећ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их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и потенцијалн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их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нежељен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их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дејст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ва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 леко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остојеће или потенцијалне нежељене, клинички значајне реакције на релацији лек-лек, лек-болест, лек-намирница, и лек-лабораторијски тес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н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ије остварена потпуна корист од прописане терап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ф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инансијски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х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проблем</a:t>
            </a: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 које пацијент има због терап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ацијент не разуме терапиј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900" spc="-1" strike="noStrike">
                <a:solidFill>
                  <a:srgbClr val="000066"/>
                </a:solidFill>
                <a:latin typeface="Calibri"/>
              </a:rPr>
              <a:t>да се п</a:t>
            </a:r>
            <a:r>
              <a:rPr b="0" lang="sr-Latn-CS" sz="1900" spc="-1" strike="noStrike">
                <a:solidFill>
                  <a:srgbClr val="000066"/>
                </a:solidFill>
                <a:latin typeface="Calibri"/>
              </a:rPr>
              <a:t>ацијент  не придржава режима лечењ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A7F3-37C6-4F8C-AC54-3CDA9BB929BA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2E88-C126-4795-AA83-A3CB457B2330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361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r-CS" sz="1800" spc="-1" strike="noStrike">
                <a:solidFill>
                  <a:srgbClr val="000066"/>
                </a:solidFill>
                <a:latin typeface="Calibri Light"/>
              </a:rPr>
              <a:t>М</a:t>
            </a:r>
            <a:r>
              <a:rPr b="1" lang="sr-Latn-CS" sz="1800" spc="-1" strike="noStrike">
                <a:solidFill>
                  <a:srgbClr val="000066"/>
                </a:solidFill>
                <a:latin typeface="Calibri Light"/>
              </a:rPr>
              <a:t>огућ</a:t>
            </a:r>
            <a:r>
              <a:rPr b="1" lang="sr-CS" sz="18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1" lang="sr-Latn-CS" sz="1800" spc="-1" strike="noStrike">
                <a:solidFill>
                  <a:srgbClr val="000066"/>
                </a:solidFill>
                <a:latin typeface="Calibri Light"/>
              </a:rPr>
              <a:t> проблем</a:t>
            </a:r>
            <a:r>
              <a:rPr b="1" lang="sr-CS" sz="18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0" lang="sr-Latn-CS" sz="1800" spc="-1" strike="noStrike">
                <a:solidFill>
                  <a:srgbClr val="000066"/>
                </a:solidFill>
                <a:latin typeface="Calibri Light"/>
              </a:rPr>
              <a:t> са којима се фармацеут може срести приликом пружања фармацеутске неге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Calibri"/>
              </a:rPr>
              <a:t>Фармацеутски </a:t>
            </a:r>
            <a:r>
              <a:rPr b="0" lang="sr-CS" sz="1800" spc="-1" strike="noStrike">
                <a:solidFill>
                  <a:srgbClr val="000066"/>
                </a:solidFill>
                <a:latin typeface="Calibri"/>
              </a:rPr>
              <a:t>р</a:t>
            </a:r>
            <a:r>
              <a:rPr b="0" lang="sr-Latn-CS" sz="1800" spc="-1" strike="noStrike">
                <a:solidFill>
                  <a:srgbClr val="000066"/>
                </a:solidFill>
                <a:latin typeface="Calibri"/>
              </a:rPr>
              <a:t>изик за пацијента</a:t>
            </a:r>
            <a:r>
              <a:rPr b="0" lang="sr-CS" sz="1800" spc="-1" strike="noStrike">
                <a:solidFill>
                  <a:srgbClr val="000066"/>
                </a:solidFill>
                <a:latin typeface="Calibri"/>
              </a:rPr>
              <a:t> због могућих проблема везаних за лек </a:t>
            </a:r>
            <a:r>
              <a:rPr b="0" lang="sr-Latn-CS" sz="18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1800" spc="-1" strike="noStrike">
                <a:solidFill>
                  <a:srgbClr val="000066"/>
                </a:solidFill>
                <a:latin typeface="Calibri"/>
              </a:rPr>
              <a:t>Неодговарајућа веза између индикације и прописане терап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Calibri"/>
              </a:rPr>
              <a:t>Ефикасност</a:t>
            </a:r>
            <a:r>
              <a:rPr b="0" lang="sr-RS" sz="1800" spc="-1" strike="noStrike">
                <a:solidFill>
                  <a:srgbClr val="000066"/>
                </a:solidFill>
                <a:latin typeface="Calibri"/>
              </a:rPr>
              <a:t> прописане терап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061F-840A-44A1-AEF0-F4459D4538B4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46BB-CBA6-42BF-93F6-F22EE6274F1D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39628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М</a:t>
            </a:r>
            <a:r>
              <a:rPr b="1" lang="sr-Latn-CS" sz="2000" spc="-1" strike="noStrike">
                <a:solidFill>
                  <a:srgbClr val="000066"/>
                </a:solidFill>
                <a:latin typeface="Calibri Light"/>
              </a:rPr>
              <a:t>огућ</a:t>
            </a: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Calibri Light"/>
              </a:rPr>
              <a:t> проблем</a:t>
            </a: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0" lang="sr-Latn-CS" sz="2000" spc="-1" strike="noStrike">
                <a:solidFill>
                  <a:srgbClr val="000066"/>
                </a:solidFill>
                <a:latin typeface="Calibri Light"/>
              </a:rPr>
              <a:t> са којима се фармацеут може срести приликом пружања фармацеутске неге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фармацеут мора да премести фокус са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лека/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рецепта на пацијента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 и да свој допринос разматрајући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600" spc="-1" strike="noStrike">
                <a:solidFill>
                  <a:srgbClr val="000066"/>
                </a:solidFill>
                <a:latin typeface="Calibri"/>
              </a:rPr>
              <a:t>Ф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армацеутск</a:t>
            </a:r>
            <a:r>
              <a:rPr b="1" lang="sr-CS" sz="2600" spc="-1" strike="noStrike">
                <a:solidFill>
                  <a:srgbClr val="000066"/>
                </a:solidFill>
                <a:latin typeface="Calibri"/>
              </a:rPr>
              <a:t>е проблеме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утвр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ђујући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нетачности у погледу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 прописане терапије, које се односе на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д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озирањ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о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блик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н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ачин примен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в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реме дозирања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дужину терапиј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интервал примене лека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FF47-97C7-417A-AA11-A29682F8B216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725D-4ACE-4944-8BD1-D49F9BE4E535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М</a:t>
            </a:r>
            <a:r>
              <a:rPr b="1" lang="sr-Latn-CS" sz="2000" spc="-1" strike="noStrike">
                <a:solidFill>
                  <a:srgbClr val="000066"/>
                </a:solidFill>
                <a:latin typeface="Calibri Light"/>
              </a:rPr>
              <a:t>огућ</a:t>
            </a: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Calibri Light"/>
              </a:rPr>
              <a:t> проблем</a:t>
            </a:r>
            <a:r>
              <a:rPr b="1" lang="sr-CS" sz="20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0" lang="sr-Latn-CS" sz="2000" spc="-1" strike="noStrike">
                <a:solidFill>
                  <a:srgbClr val="000066"/>
                </a:solidFill>
                <a:latin typeface="Calibri Light"/>
              </a:rPr>
              <a:t> са којима се фармацеут може срести приликом пружања фармацеутске неге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У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погледу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процене</a:t>
            </a:r>
            <a:r>
              <a:rPr b="1" lang="sr-CS" sz="2600" spc="-1" strike="noStrike">
                <a:solidFill>
                  <a:srgbClr val="000066"/>
                </a:solidFill>
                <a:latin typeface="Calibri"/>
              </a:rPr>
              <a:t> р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изи</a:t>
            </a:r>
            <a:r>
              <a:rPr b="1" lang="sr-CS" sz="2600" spc="-1" strike="noStrike">
                <a:solidFill>
                  <a:srgbClr val="000066"/>
                </a:solidFill>
                <a:latin typeface="Calibri"/>
              </a:rPr>
              <a:t>ка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 за пацијента</a:t>
            </a:r>
            <a:r>
              <a:rPr b="1" lang="sr-CS" sz="2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утвр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ђујући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ризике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, који се односе н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п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ознате контраиндикациј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интеракције (л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ек-лек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 л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ек-болест/стањ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 л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ек-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храна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л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ек-лабораторијски тест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лергије на леков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п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роблема које прави лек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н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еправилна употреба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н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ајчешћа/озб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љна нежељена дејства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као и ризике који се односе на г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решк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е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у терапији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5EE7-5CBF-4692-B2F3-2F6BE6FDD030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044C-BD7B-47D7-9C73-9E3C66EBEB75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2100" spc="-1" strike="noStrike">
                <a:solidFill>
                  <a:srgbClr val="000066"/>
                </a:solidFill>
                <a:latin typeface="Calibri Light"/>
              </a:rPr>
              <a:t>М</a:t>
            </a:r>
            <a:r>
              <a:rPr b="1" lang="sr-Latn-CS" sz="2100" spc="-1" strike="noStrike">
                <a:solidFill>
                  <a:srgbClr val="000066"/>
                </a:solidFill>
                <a:latin typeface="Calibri Light"/>
              </a:rPr>
              <a:t>огућ</a:t>
            </a:r>
            <a:r>
              <a:rPr b="1" lang="sr-CS" sz="21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1" lang="sr-Latn-CS" sz="2100" spc="-1" strike="noStrike">
                <a:solidFill>
                  <a:srgbClr val="000066"/>
                </a:solidFill>
                <a:latin typeface="Calibri Light"/>
              </a:rPr>
              <a:t> проблем</a:t>
            </a:r>
            <a:r>
              <a:rPr b="1" lang="sr-CS" sz="2100" spc="-1" strike="noStrike">
                <a:solidFill>
                  <a:srgbClr val="000066"/>
                </a:solidFill>
                <a:latin typeface="Calibri Light"/>
              </a:rPr>
              <a:t>и</a:t>
            </a:r>
            <a:r>
              <a:rPr b="0" lang="sr-Latn-CS" sz="2100" spc="-1" strike="noStrike">
                <a:solidFill>
                  <a:srgbClr val="000066"/>
                </a:solidFill>
                <a:latin typeface="Calibri Light"/>
              </a:rPr>
              <a:t> са којима се фармацеут може срести приликом пружања фармацеутске неге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Питања ефикасности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прописане терапије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утвр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ђујући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следеће: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с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убоптимални избор фармакотерапије за индикациј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д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оказ терапијске ефикасности је минималан или не постоји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с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убоптимална фармакотерапија (неправилн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употреба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лекова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пре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т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ходна непријатна искуства са лековима или пацијент не верује да лек делује)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д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оступност лекова </a:t>
            </a:r>
            <a:r>
              <a:rPr b="0" lang="sr-CS" sz="2200" spc="-1" strike="noStrike">
                <a:solidFill>
                  <a:srgbClr val="000066"/>
                </a:solidFill>
                <a:latin typeface="Calibri"/>
              </a:rPr>
              <a:t> као и могућност да их пацијент пла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1518-358E-4EE2-9E1F-7B16FC759AAB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CB29-395D-441A-9B92-DA37CBEF0508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1800" spc="-1" strike="noStrike">
                <a:solidFill>
                  <a:srgbClr val="000066"/>
                </a:solidFill>
                <a:latin typeface="Calibri Light"/>
              </a:rPr>
              <a:t>Фармацеутска нега</a:t>
            </a:r>
            <a:r>
              <a:rPr b="0" lang="sr-CS" sz="1800" spc="-1" strike="noStrike">
                <a:solidFill>
                  <a:srgbClr val="000066"/>
                </a:solidFill>
                <a:latin typeface="Calibri Light"/>
              </a:rPr>
              <a:t> је цикличан процес: неопходно је периодично спроводити поновне процене постојања / решавања проблема, односно стања пацијент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33EF-2CF7-48D6-845D-FC5E605D2705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6269-6BB8-4390-BFC3-5A96F32C3084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5334120" y="4343400"/>
            <a:ext cx="327636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ТЕРАПИЈСКИ ПОСТУПЦ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&amp;</a:t>
            </a:r>
            <a:r>
              <a:rPr b="1" lang="sr-CS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ИМПЛЕМЕНТА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762120" y="4343400"/>
            <a:ext cx="281916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ИСХОД ЛЕЧЕ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3124080" y="25909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ПРОЦ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2971800" y="5943600"/>
            <a:ext cx="327672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МОНИТОРИН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Arial"/>
              </a:rPr>
              <a:t>(КОНТРОЛЕ / ПРАЋЕЊ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1828800" y="2743200"/>
            <a:ext cx="914400" cy="1447920"/>
          </a:xfrm>
          <a:custGeom>
            <a:avLst/>
            <a:gdLst>
              <a:gd name="textAreaLeft" fmla="*/ 525960 w 914400"/>
              <a:gd name="textAreaRight" fmla="*/ 771840 w 914400"/>
              <a:gd name="textAreaTop" fmla="*/ 195120 h 1447920"/>
              <a:gd name="textAreaBottom" fmla="*/ 61992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9"/>
          <p:cNvSpPr/>
          <p:nvPr/>
        </p:nvSpPr>
        <p:spPr>
          <a:xfrm rot="5400000">
            <a:off x="6400440" y="2971800"/>
            <a:ext cx="1219320" cy="121932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64160 h 1219320"/>
              <a:gd name="textAreaBottom" fmla="*/ 5220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AutoShape 10"/>
          <p:cNvSpPr/>
          <p:nvPr/>
        </p:nvSpPr>
        <p:spPr>
          <a:xfrm rot="10800000">
            <a:off x="6553080" y="5333760"/>
            <a:ext cx="990720" cy="1523880"/>
          </a:xfrm>
          <a:custGeom>
            <a:avLst/>
            <a:gdLst>
              <a:gd name="textAreaLeft" fmla="*/ 569880 w 990720"/>
              <a:gd name="textAreaRight" fmla="*/ 836280 w 990720"/>
              <a:gd name="textAreaTop" fmla="*/ 205200 h 1523880"/>
              <a:gd name="textAreaBottom" fmla="*/ 6523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11"/>
          <p:cNvSpPr/>
          <p:nvPr/>
        </p:nvSpPr>
        <p:spPr>
          <a:xfrm rot="16200000">
            <a:off x="1676160" y="5257440"/>
            <a:ext cx="1219320" cy="1218960"/>
          </a:xfrm>
          <a:custGeom>
            <a:avLst/>
            <a:gdLst>
              <a:gd name="textAreaLeft" fmla="*/ 701640 w 1219320"/>
              <a:gd name="textAreaRight" fmla="*/ 1028880 w 1219320"/>
              <a:gd name="textAreaTop" fmla="*/ 164160 h 1218960"/>
              <a:gd name="textAreaBottom" fmla="*/ 52164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C1CA-0DFA-4CFE-84A4-214B2E59C2C8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068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CS" sz="4300" spc="-1" strike="noStrike">
                <a:solidFill>
                  <a:srgbClr val="000066"/>
                </a:solidFill>
                <a:latin typeface="Calibri"/>
                <a:ea typeface="Calibri"/>
              </a:rPr>
              <a:t>Увод у праксу клиничке фармације</a:t>
            </a:r>
            <a:br>
              <a:rPr sz="4300"/>
            </a:br>
            <a:br>
              <a:rPr sz="4300"/>
            </a:br>
            <a:r>
              <a:rPr b="1" lang="sr-CS" sz="4300" spc="-1" strike="noStrike">
                <a:solidFill>
                  <a:srgbClr val="000066"/>
                </a:solidFill>
                <a:latin typeface="Calibri"/>
                <a:ea typeface="Calibri"/>
              </a:rPr>
              <a:t>пацијент у фокусу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340000" y="11970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4000" y="1700280"/>
            <a:ext cx="8686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400" spc="-1" strike="noStrike">
                <a:solidFill>
                  <a:srgbClr val="000066"/>
                </a:solidFill>
                <a:latin typeface="Calibri"/>
              </a:rPr>
              <a:t>Кораци у циклусу фармацеутске здравствене             зашти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Прикупљање релевантних података за израду плана праћења ефикасности и безбедности терапије (плана </a:t>
            </a:r>
            <a:r>
              <a:rPr b="0" i="1" lang="sr-CS" sz="2000" spc="-1" strike="noStrike">
                <a:solidFill>
                  <a:srgbClr val="000066"/>
                </a:solidFill>
                <a:latin typeface="Calibri"/>
              </a:rPr>
              <a:t>фармацеутске неге</a:t>
            </a: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Идентификација  проблема везаних за примену лекова</a:t>
            </a:r>
            <a:r>
              <a:rPr b="0" lang="sr-Latn-C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и категорисање проблема према приоритету (потреби за хитним</a:t>
            </a:r>
            <a:r>
              <a:rPr b="0" lang="sr-Latn-C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реаговање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000" spc="-1" strike="noStrike">
                <a:solidFill>
                  <a:srgbClr val="000066"/>
                </a:solidFill>
                <a:latin typeface="Calibri"/>
              </a:rPr>
              <a:t>Дефинисање циљева лечења, тј. пожељног (их) исхода за сваки актуелни или потенцијални пробле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A73E-C4AD-4B7D-8E97-CB24BC708622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E785-FD74-411F-9CD7-34F999F99DC4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33160" y="1699920"/>
            <a:ext cx="84582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Детаљна процена сваког појединачног проблема (обухвата и разматрање утицаја евентуалних удружених патолошких стања, односно других лекова које пацијент истовремено користи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Дефинисање терапијских могућности / алтернатива (медикаментозних и нефармаколошких) у циљу остварења пожељног (их) исход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Имплементација (примена) најбољег избора лечења: измена претходне терапије у смислу увођења новог лека, замене одређеног лека другим и/или обуставе употребе појединих медикамент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Мониторинг клиничког ефекта и безбедности медикаментозне терапије, као и комплијансе (мишљења / става пацијента о примењеној терапији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178A-E2EB-4EF3-8AC8-0E8EC614A2F5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2A70-1A92-4E45-AF76-C47396F20A9A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23560" y="1413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 Light"/>
              </a:rPr>
              <a:t>Проценом ризика и користи фармакотерапије остварује се основни циљ</a:t>
            </a:r>
            <a:r>
              <a:rPr b="0" lang="sr-CS" sz="2100" spc="-1" strike="noStrike">
                <a:solidFill>
                  <a:srgbClr val="ffff00"/>
                </a:solidFill>
                <a:latin typeface="Calibri Ligh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47280" y="242064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21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2506-5129-40F6-B7FD-56B360188EDD}" type="datetime">
              <a:rPr b="0" lang="en-US" sz="9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824E-AD83-45EB-837E-EA33F08BD8EC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1447920" y="3200400"/>
            <a:ext cx="3809880" cy="1828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ahoma"/>
              </a:rPr>
              <a:t>Обезбеђењ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ahoma"/>
              </a:rPr>
              <a:t>ефикасне терап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4648320" y="3048120"/>
            <a:ext cx="3657600" cy="1981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ahoma"/>
              </a:rPr>
              <a:t>Обезбеђењ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ahoma"/>
              </a:rPr>
              <a:t>безбедне терап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sr-CS" sz="1900" spc="-1" strike="noStrike">
                <a:solidFill>
                  <a:srgbClr val="000066"/>
                </a:solidFill>
                <a:latin typeface="Calibri Light"/>
              </a:rPr>
              <a:t>В</a:t>
            </a:r>
            <a:r>
              <a:rPr b="1" lang="sr-Latn-CS" sz="1900" spc="-1" strike="noStrike">
                <a:solidFill>
                  <a:srgbClr val="000066"/>
                </a:solidFill>
                <a:latin typeface="Calibri Light"/>
              </a:rPr>
              <a:t>изија професије</a:t>
            </a:r>
            <a:r>
              <a:rPr b="1" lang="sr-CS" sz="1900" spc="-1" strike="noStrike">
                <a:solidFill>
                  <a:srgbClr val="000066"/>
                </a:solidFill>
                <a:latin typeface="Calibri Light"/>
              </a:rPr>
              <a:t> фармацеута</a:t>
            </a:r>
            <a:endParaRPr b="0" lang="en-US" sz="1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66"/>
                </a:solidFill>
                <a:latin typeface="Calibri"/>
              </a:rPr>
              <a:t>Ф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армацеути  признати и цењени истакнути здравствени професионалци одговорни за 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употребу 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лекова у превенцији и терапији болест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E399-A99B-474C-96DE-65C6C8C5FE35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2276640"/>
            <a:ext cx="8001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Да би се ова визија испунила, професија мора 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да 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обезбеди  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квалификован кадар - </a:t>
            </a:r>
            <a:r>
              <a:rPr b="0" lang="sr-Latn-CS" sz="2100" spc="-1" strike="noStrike">
                <a:solidFill>
                  <a:srgbClr val="ed7d31"/>
                </a:solidFill>
                <a:latin typeface="Calibri"/>
              </a:rPr>
              <a:t>клиничке фармацеуте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,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 који поседују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одговарајуће знање и вештине, да би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  дали свој допринос успешном лечењу пацијенат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Клинички фармацеут ≠ клинички фармаколо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27BA-DEAC-4D24-8648-FC2A57BB649D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sr-Latn-CS" sz="3000" spc="-1" strike="noStrike">
                <a:solidFill>
                  <a:srgbClr val="000066"/>
                </a:solidFill>
                <a:latin typeface="Calibri Light"/>
              </a:rPr>
              <a:t>Клиничка фармација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220464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је п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одручје фармације које се 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научно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и </a:t>
            </a:r>
            <a:r>
              <a:rPr b="1" lang="sr-Latn-CS" sz="2600" spc="-1" strike="noStrike">
                <a:solidFill>
                  <a:srgbClr val="000066"/>
                </a:solidFill>
                <a:latin typeface="Calibri"/>
              </a:rPr>
              <a:t>практично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бави рационалном применом лек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је дисциплина здравствених наука у којој фармацеути пружају негу пацијентима којом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обезбеђују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оптим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алну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медикаментозну терапију и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на тај начин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унапређују здравље и добробит </a:t>
            </a: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пацијенат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Такође, имају активну улогу у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 превенцији боле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2702-C37D-4A11-94FB-9DD03DBC2171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Пракса клиничке фармације обухвата филозофију фармацеутске неге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она спаја опредељење за негу са специјализованим терапеутским знањем, искуством и проценом са циљем да обезбеди оптимал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н исход</a:t>
            </a:r>
            <a:r>
              <a:rPr b="0" lang="sr-CS" sz="2100" spc="-1" strike="noStrike">
                <a:solidFill>
                  <a:srgbClr val="000066"/>
                </a:solidFill>
                <a:latin typeface="Calibri"/>
              </a:rPr>
              <a:t> лечења</a:t>
            </a:r>
            <a:r>
              <a:rPr b="0" lang="sr-Latn-CS" sz="2100" spc="-1" strike="noStrike">
                <a:solidFill>
                  <a:srgbClr val="000066"/>
                </a:solidFill>
                <a:latin typeface="Calibri"/>
              </a:rPr>
              <a:t> пацијена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520B-D101-4CFF-96A0-FF2303A9428D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sr-Latn-CS" sz="3000" spc="-1" strike="noStrike">
                <a:solidFill>
                  <a:srgbClr val="000066"/>
                </a:solidFill>
                <a:latin typeface="Calibri Light"/>
              </a:rPr>
              <a:t>Клинички фармацеут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0920" y="22050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брине о пацијентим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600" spc="-1" strike="noStrike">
                <a:solidFill>
                  <a:srgbClr val="ed7d31"/>
                </a:solidFill>
                <a:latin typeface="Calibri"/>
              </a:rPr>
              <a:t>у свим окружењима здравствене заштит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600" spc="-1" strike="noStrike">
                <a:solidFill>
                  <a:srgbClr val="000066"/>
                </a:solidFill>
                <a:latin typeface="Calibri"/>
              </a:rPr>
              <a:t>треба да </a:t>
            </a:r>
            <a:r>
              <a:rPr b="0" lang="sr-Latn-CS" sz="2600" spc="-1" strike="noStrike">
                <a:solidFill>
                  <a:srgbClr val="000066"/>
                </a:solidFill>
                <a:latin typeface="Calibri"/>
              </a:rPr>
              <a:t>поседујe  знање о лековима које је интегрисано са темељним разумевањем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биомедицински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фармацеутски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социобихевиоралних 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66"/>
                </a:solidFill>
                <a:latin typeface="Calibri"/>
              </a:rPr>
              <a:t>клиничких нау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AF9C-5DF3-415B-AF5F-3F9479F23A88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3300" spc="-1" strike="noStrike">
                <a:solidFill>
                  <a:srgbClr val="000066"/>
                </a:solidFill>
                <a:latin typeface="Calibri Light"/>
              </a:rPr>
              <a:t>Клинички фармацеу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000" y="206064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У оквиру система здравствене заштите, клинички фармацеути су стручњаци за терапеутску примену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рутински обезбеђујe процене и препоруке</a:t>
            </a:r>
            <a:r>
              <a:rPr b="0" lang="sr-CS" sz="2800" spc="-1" strike="noStrike">
                <a:solidFill>
                  <a:srgbClr val="000066"/>
                </a:solidFill>
                <a:latin typeface="Calibri"/>
                <a:ea typeface="Calibri"/>
              </a:rPr>
              <a:t>, које се односе на </a:t>
            </a: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медикаментозн</a:t>
            </a:r>
            <a:r>
              <a:rPr b="0" lang="sr-CS" sz="2800" spc="-1" strike="noStrike">
                <a:solidFill>
                  <a:srgbClr val="000066"/>
                </a:solidFill>
                <a:latin typeface="Calibri"/>
                <a:ea typeface="Calibri"/>
              </a:rPr>
              <a:t>у</a:t>
            </a: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 терапиј</a:t>
            </a:r>
            <a:r>
              <a:rPr b="0" lang="sr-CS" sz="2800" spc="-1" strike="noStrike">
                <a:solidFill>
                  <a:srgbClr val="000066"/>
                </a:solidFill>
                <a:latin typeface="Calibri"/>
                <a:ea typeface="Calibri"/>
              </a:rPr>
              <a:t>у</a:t>
            </a: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 пацијентима и здравственим професионалц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CS" sz="2800" spc="-1" strike="noStrike">
                <a:solidFill>
                  <a:srgbClr val="000066"/>
                </a:solidFill>
                <a:latin typeface="Calibri"/>
                <a:ea typeface="Calibri"/>
              </a:rPr>
              <a:t>поуздан</a:t>
            </a:r>
            <a:r>
              <a:rPr b="0" lang="sr-Latn-CS" sz="2800" spc="-1" strike="noStrike">
                <a:solidFill>
                  <a:srgbClr val="000066"/>
                </a:solidFill>
                <a:latin typeface="Calibri"/>
                <a:ea typeface="Calibri"/>
              </a:rPr>
              <a:t> извор научно валидне информације и савета који се тичу безбедне, одговарајуће, и трошковно ефикасне примене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EBA8-F4E3-4462-B414-C47D184B8EF0}" type="slidenum">
              <a:rPr b="0" lang="en-US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9-09-12T21:30:27Z</dcterms:modified>
  <cp:revision>15</cp:revision>
  <dc:subject/>
  <dc:title>Slide 1</dc:title>
</cp:coreProperties>
</file>